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3364A-2799-4E66-83DB-EA9724BCB1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725A5-FC53-47CA-9DDC-FB9AA3CA9D1D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89424-82C9-418D-84F8-60A43BA87C9D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43643-4071-412F-9BC1-8C5BF9C343ED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85A76-D8CC-4144-8522-2762DC832F0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FFC067-94C2-42A8-BE14-B4B7CB4FD3A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F2B8B-7F74-442B-BE8C-5E6C5082F8E7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9C0AD-FBA5-4583-AD01-B8AD5766C87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81141-5F64-452F-9ABF-7A943919ED7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7A772-6F64-493B-B489-164DC2CCB88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3F113-7703-401B-81D7-3A6FE7603B4D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4FCC1-AEE7-4793-8A52-70FAC06F6532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DB74D-B559-435F-89CE-35BCF7C9FDA2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В таблице отражаются сведения о прерывании беременности в срок до 12 недель. В графе 4 показывается общее число прерываний беременности в срок до 12 недель, в графах 5-9 – распределение по возрастам. Графа 4 равна сумме граф 5,6,7,8,9. Из граф 4 выделяются: прерывания беременности у первобеременных (графа 10), у ВИЧ – инфицированных (графа 1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По срокам 2-6 отражаются: другие аномальные продукты зачатия (строка 2), самопроизвольный аборт (строка 3), медицинский аборт (строка 4), другие виды аборты (криминальный) (строка 5), аборт неуточненный (внебольничный) (строка 6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Строка 1 равна сумме срок 2-6 по всем граф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Кроме того, в строках 7-9 отражаются: внематочная беременность (строка 7), пузырный занос (строка 8), неудачная попытка аборта (строка 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D54E14-65ED-43A0-9BFC-407B96D2A817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9585-342E-4815-AE46-1BE773C2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3A2D-0103-4136-AB65-994950CC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84B-DE32-49A2-AA34-A25E6DDB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1F1F-29C3-4493-82EE-000B7C81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2AC6-5CCB-4AD2-830B-9B396974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AEAF-B7A7-468E-8E96-55C42F9F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065A-6692-4764-868C-48423C66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D30D-DACC-451D-AC7F-65B92923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627F-8120-4AA3-A98A-D8072649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B858-715D-49C4-B095-F130EF48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15CC-46CC-4CDD-B9B3-EE2FC117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D0F-7FB2-4E89-925A-AE84A806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A179-2F35-4921-BECA-DF164EDF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04A4-40F9-437F-B452-CA7FA34E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F063-613D-4806-B139-41460C53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64FC-0B3A-46BD-A287-F346E7FA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4CC0-F63E-4964-AD4D-3199F5BA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639B6-C430-4A7B-BB61-B75308A0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9E7A7-3236-4E42-8E7F-63022C9C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525E4-EBB3-4483-B017-FA299205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D4F4E-8197-4830-8755-765E0A90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6C41A-08B4-4BE8-A1D8-C48D6C05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0988-1B07-464D-8E28-9F27C99C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D2A05-30FE-4B9B-9ACF-0349B206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5958E-D4ED-4543-A22C-908A1D84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BB2F4-8FB6-4D55-AD67-9801204E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E70CC-B4EE-4B6F-B445-2B74DDD6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A932C-23C5-4942-AC55-C1E02384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2A546-EA1A-491A-9A0A-41A429E8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008F2-88EF-40F1-8BB9-BA7214B4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D1C0C-F837-4D5B-BB69-CE56C648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8A9C7-40F7-45D0-B5A4-6E382AF6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6CD56-CF8E-4120-903C-1BB8014C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DC51-D71E-41E5-9489-556FBC67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A4822-460F-4067-A60A-8B50E0CE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85ABF-961C-4D34-B42C-6EB9EBE1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4BD39-B292-4784-941E-DCDA8823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66314-A071-4E70-A9D2-42047D14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D7F04-4A17-478D-A64D-C76BF89D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F7CA7-ECDB-46A2-9748-CCE6E4DA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1D5E8-AEC2-444F-BAA5-A44FBE1C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5DC4E-BC93-4EAF-9702-45982D90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0A730-BA21-4019-B2F7-D6F0A939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24CD-F2A4-4056-91FA-9B5099F6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967-07D7-43AA-B108-3750CD18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E1F5-5476-4130-929B-BF3E4ED3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BFE3-FAC2-4BAB-B995-E8D4A1D1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4708-A059-4BD6-9D7D-E662E64E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907E7A-0368-487F-860E-24FD2A0B54B7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762120"/>
            <a:ext cx="9142560" cy="533376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271080" y="762120"/>
            <a:ext cx="2923920" cy="533376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63FBC-B33E-4E8C-A1B6-C4C75B9BC146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F1695-21E7-4AA6-9856-BEAD7DF2D555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49884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5F23F-4348-434A-8362-E36208D7B362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9920" y="1850760"/>
            <a:ext cx="73152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300"/>
            </a:br>
            <a:br>
              <a:rPr sz="5300"/>
            </a:br>
            <a:br>
              <a:rPr sz="5300"/>
            </a:br>
            <a:r>
              <a:rPr b="1" lang="ru-RU" sz="5300" spc="-1" strike="noStrike">
                <a:solidFill>
                  <a:srgbClr val="ffffff"/>
                </a:solidFill>
                <a:latin typeface="Corbel"/>
              </a:rPr>
              <a:t>Форма № 13</a:t>
            </a:r>
            <a:br>
              <a:rPr sz="5300"/>
            </a:br>
            <a:r>
              <a:rPr b="1" lang="ru-RU" sz="5300" spc="-1" strike="noStrike">
                <a:solidFill>
                  <a:srgbClr val="ffffff"/>
                </a:solidFill>
                <a:latin typeface="Corbel"/>
              </a:rPr>
              <a:t>«Сведения о беременности с абортивным исходом»</a:t>
            </a:r>
            <a:endParaRPr b="0" lang="en-US" sz="5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613320" y="3825360"/>
            <a:ext cx="84564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Т.К. Гребенник </a:t>
            </a:r>
            <a:endParaRPr b="0" lang="en-US" sz="26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t_grebennik@oparina4.ru)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Заведующий организационно-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методическим отделом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ФГБУ «НМИЦ АГП им. В.И. Кулакова» МЗ РФ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9" name="Footer Placeholder 17"/>
          <p:cNvSpPr/>
          <p:nvPr/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1a616f"/>
                </a:solidFill>
                <a:latin typeface="Corbel"/>
              </a:rPr>
              <a:t>12 декабря, 2018 г.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2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22240" y="777960"/>
            <a:ext cx="816156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Другие анормальные продукты зачатия (О02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385800" y="2923920"/>
            <a:ext cx="7907400" cy="30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 данную рубрику входят диагнозы «анэмбриония», «неразвивающаяся беременность»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ключен: бумажный плод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необходимости идентифицировать любое связанное с другими анормальными продуктами зачатия (О02) осложнение используют дополнительный код рубрики (О08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747960" y="293760"/>
            <a:ext cx="787896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амопроизвольный </a:t>
            </a: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аборт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(О03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22600" y="1581120"/>
            <a:ext cx="7770960" cy="51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анный код используется, если аборт произошел в стационаре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амопроизвольно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, т.е. в следующих случаях: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беременная пациентка находилась в стационаре. Аборт самопроизвольно начался и произошел в условиях стационара;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беременная пациентка поступила с диагнозом «начавшийся выкидыш», терапия, направленная на сохранение беременности, не проводилась или была неэффективна, самопроизвольный аборт произошел в условиях стационара;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пациентка поступила с диагнозом «аборт в ходу», аборт произошел в условиях стационара.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Если пациентка поступила в стационар после совершившегося самопроизвольного выкидыша вне стационара, случай необходимо указывать в строке 6 (аборт неуточненный)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4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617640" y="419040"/>
            <a:ext cx="7986600" cy="14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Медицинский аборт (О04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421080" y="576360"/>
            <a:ext cx="8578800" cy="59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анный код используется, если в стационаре произошло прерывание развивающейся беременности по желанию женщины (Таб. 1000) или по медицинским показаниям, независимо от метода прерывания беременности (инструментальный, консервативный)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сроке беременности более 12 недель прерывание беременности по желанию женщины не проводится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едицинские аборты, проведенные по медицинским показаниям, в том числе медикаментозным методом, показываются в таблице 1101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5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67120" y="867960"/>
            <a:ext cx="772488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Другие виды аборта (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05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498840" y="2064960"/>
            <a:ext cx="7794720" cy="39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анный код используется в случае наличия криминального аборта, независимо от того, на какой его стадии пациентка поступила в стационар (любой аборт, проведенный вне медицинских организаций любой формы собственности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66760" y="732960"/>
            <a:ext cx="76820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борт неуточненный (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0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634920" y="1839600"/>
            <a:ext cx="7658280" cy="41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анный код используется в случае наличия внебольничного аборта, т.е. при поступлении пациентки после свершившегося вне какой-либо медицинской организации («на дому») самопроизвольного аборта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66760" y="755280"/>
            <a:ext cx="7426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нематочная беременность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O0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758760" y="1952640"/>
            <a:ext cx="7534440" cy="40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ключены: О00.0, О00.1, О00.2, О00.8, О00.9 (см. МКБ-10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 необходимости идентифицировать любое связанное с внематочной беременностью (О00) осложнение используют дополнительный код рубрики О08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66760" y="868320"/>
            <a:ext cx="763596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Пузырный занос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O01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690720" y="2162160"/>
            <a:ext cx="7677000" cy="378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ключены: О01.0, О01.1, О01.9. (см. МКБ-10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ключен: злокачественный пузырный занос (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9.2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634920" y="2155680"/>
            <a:ext cx="7658280" cy="383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Corbel"/>
              </a:rPr>
              <a:t>Данный код используется в случае поступления в медицинскую организацию пациенток с продолжающейся беременностью после проведения попытки аборта в любой медицинской организации.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8" name="Объект 2"/>
          <p:cNvSpPr/>
          <p:nvPr/>
        </p:nvSpPr>
        <p:spPr>
          <a:xfrm>
            <a:off x="4064040" y="1020600"/>
            <a:ext cx="72295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Неудачная попытка аборта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7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105;2105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714840" y="2607840"/>
            <a:ext cx="7578720" cy="33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Corbel"/>
              </a:rPr>
              <a:t>У любой пациентки в рамках одной госпитализации может иметь место несколько осложнений беременности с абортивным исходом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1" name="Объект 2"/>
          <p:cNvSpPr/>
          <p:nvPr/>
        </p:nvSpPr>
        <p:spPr>
          <a:xfrm>
            <a:off x="4064040" y="1020600"/>
            <a:ext cx="76201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сложнения, вызванные абортом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8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3000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758760" y="2760840"/>
            <a:ext cx="7613640" cy="39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графе 1 указывается число женщин, умерших от прерывания беременност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02- О06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 них в графе 2 – в сроки до 12 недель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 них в графе 3 – в сроки 12-22 недели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исло в графе 1 должно равняться сумме граф 2 и 3 этой таблицы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4" name="Объект 2"/>
          <p:cNvSpPr/>
          <p:nvPr/>
        </p:nvSpPr>
        <p:spPr>
          <a:xfrm>
            <a:off x="4064040" y="496800"/>
            <a:ext cx="746136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Число женщин, умерших от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2- О06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ЭКОНОМИЧЕСКОГО РАЗВИТИЯ РОССИЙСКОЙ ФЕДЕРАЦИИ 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СЛУЖБА ГОСУДАРСТВЕННОЙ СТАТИСТИКИ 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2 декабря 2017 г. № 861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СТАТИСТИЧЕСКОГО ИНСТРУМЕНТАРИЯ ДЛЯ ОРГАНИЗАЦИИ МИНИСТЕРСТВОМ ЗДРАВООХРАНЕНИЯ РОССИЙСКОЙ ФЕДЕРАЦИИ ФЕДЕРАЛЬНОГО СТАТИСТИЧЕСКОГО НАБЛЮДЕНИЯ В СФЕРЕ ЗДРАВООХРАНЕНИЯ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4 = ф13т1100г1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1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37" name="Объект 2" descr=""/>
          <p:cNvPicPr/>
          <p:nvPr/>
        </p:nvPicPr>
        <p:blipFill>
          <a:blip r:embed="rId1"/>
          <a:stretch/>
        </p:blipFill>
        <p:spPr>
          <a:xfrm>
            <a:off x="3565440" y="90180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38" name="Овал 10"/>
          <p:cNvSpPr/>
          <p:nvPr/>
        </p:nvSpPr>
        <p:spPr>
          <a:xfrm>
            <a:off x="6861240" y="2438280"/>
            <a:ext cx="755640" cy="271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Овал 13"/>
          <p:cNvSpPr/>
          <p:nvPr/>
        </p:nvSpPr>
        <p:spPr>
          <a:xfrm>
            <a:off x="6491160" y="3882960"/>
            <a:ext cx="93672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Овал 15"/>
          <p:cNvSpPr/>
          <p:nvPr/>
        </p:nvSpPr>
        <p:spPr>
          <a:xfrm flipH="1">
            <a:off x="7891560" y="426708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3908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5 =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3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43" name="Объект 2" descr=""/>
          <p:cNvPicPr/>
          <p:nvPr/>
        </p:nvPicPr>
        <p:blipFill>
          <a:blip r:embed="rId1"/>
          <a:stretch/>
        </p:blipFill>
        <p:spPr>
          <a:xfrm>
            <a:off x="3643200" y="91296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44" name="Овал 10"/>
          <p:cNvSpPr/>
          <p:nvPr/>
        </p:nvSpPr>
        <p:spPr>
          <a:xfrm>
            <a:off x="7427880" y="2449440"/>
            <a:ext cx="755640" cy="27000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Овал 13"/>
          <p:cNvSpPr/>
          <p:nvPr/>
        </p:nvSpPr>
        <p:spPr>
          <a:xfrm>
            <a:off x="7097760" y="4052880"/>
            <a:ext cx="93672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Овал 15"/>
          <p:cNvSpPr/>
          <p:nvPr/>
        </p:nvSpPr>
        <p:spPr>
          <a:xfrm flipH="1">
            <a:off x="8876520" y="4437000"/>
            <a:ext cx="825480" cy="3826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3908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6 =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49" name="Объект 2" descr=""/>
          <p:cNvPicPr/>
          <p:nvPr/>
        </p:nvPicPr>
        <p:blipFill>
          <a:blip r:embed="rId1"/>
          <a:stretch/>
        </p:blipFill>
        <p:spPr>
          <a:xfrm>
            <a:off x="3643200" y="91296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50" name="Овал 10"/>
          <p:cNvSpPr/>
          <p:nvPr/>
        </p:nvSpPr>
        <p:spPr>
          <a:xfrm>
            <a:off x="8034480" y="2401920"/>
            <a:ext cx="755640" cy="271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Овал 13"/>
          <p:cNvSpPr/>
          <p:nvPr/>
        </p:nvSpPr>
        <p:spPr>
          <a:xfrm>
            <a:off x="8418600" y="4030560"/>
            <a:ext cx="938160" cy="3826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Овал 15"/>
          <p:cNvSpPr/>
          <p:nvPr/>
        </p:nvSpPr>
        <p:spPr>
          <a:xfrm flipH="1">
            <a:off x="10119600" y="4413240"/>
            <a:ext cx="8240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0783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прерывании беременности в возрастной группе до 14 лет (строка 1 графа 5 таблица 1000) необходимо указать число первобеременных (графа 1) – число в этой графе должно быть меньше, чем в строке 1 графе 5 и строке 1 графе 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55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56" name="Овал 10"/>
          <p:cNvSpPr/>
          <p:nvPr/>
        </p:nvSpPr>
        <p:spPr>
          <a:xfrm>
            <a:off x="8805960" y="490680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Овал 13"/>
          <p:cNvSpPr/>
          <p:nvPr/>
        </p:nvSpPr>
        <p:spPr>
          <a:xfrm>
            <a:off x="7407360" y="1792440"/>
            <a:ext cx="811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Овал 15"/>
          <p:cNvSpPr/>
          <p:nvPr/>
        </p:nvSpPr>
        <p:spPr>
          <a:xfrm flipH="1">
            <a:off x="990612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31449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ВИЧ инфицированных среди возрастной группы до 14 лет  (графа 2) – число в этой графе должно быть меньше, чем в строке 1 графе 5 и строке 1 графе 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61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62" name="Овал 10"/>
          <p:cNvSpPr/>
          <p:nvPr/>
        </p:nvSpPr>
        <p:spPr>
          <a:xfrm>
            <a:off x="10334520" y="4917960"/>
            <a:ext cx="7891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Овал 13"/>
          <p:cNvSpPr/>
          <p:nvPr/>
        </p:nvSpPr>
        <p:spPr>
          <a:xfrm>
            <a:off x="7407360" y="1792440"/>
            <a:ext cx="811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Овал 15"/>
          <p:cNvSpPr/>
          <p:nvPr/>
        </p:nvSpPr>
        <p:spPr>
          <a:xfrm flipH="1">
            <a:off x="1042524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0783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прерывании беременности в возрастной группе 15-17 лет (строка 1 графа 6 таблица 1000) необходимо указать число первобеременных (графа 1) – число в этой графе должно быть меньше, чем в строке 1 графе 6 и строке 1 графе 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67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68" name="Овал 10"/>
          <p:cNvSpPr/>
          <p:nvPr/>
        </p:nvSpPr>
        <p:spPr>
          <a:xfrm>
            <a:off x="8805960" y="529128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Овал 13"/>
          <p:cNvSpPr/>
          <p:nvPr/>
        </p:nvSpPr>
        <p:spPr>
          <a:xfrm>
            <a:off x="7994520" y="1792440"/>
            <a:ext cx="8114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Овал 15"/>
          <p:cNvSpPr/>
          <p:nvPr/>
        </p:nvSpPr>
        <p:spPr>
          <a:xfrm flipH="1">
            <a:off x="990612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2338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ВИЧ инфицированных среди возрастной группы 15-17лет  (графа 2) – число в этой графе должно быть меньше, чем в строке 1 графе 6 и строке 1 графе 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73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74" name="Овал 10"/>
          <p:cNvSpPr/>
          <p:nvPr/>
        </p:nvSpPr>
        <p:spPr>
          <a:xfrm>
            <a:off x="10425240" y="5261040"/>
            <a:ext cx="787320" cy="29376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Овал 13"/>
          <p:cNvSpPr/>
          <p:nvPr/>
        </p:nvSpPr>
        <p:spPr>
          <a:xfrm>
            <a:off x="8026560" y="1792440"/>
            <a:ext cx="688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Овал 15"/>
          <p:cNvSpPr/>
          <p:nvPr/>
        </p:nvSpPr>
        <p:spPr>
          <a:xfrm flipH="1">
            <a:off x="10424520" y="1792440"/>
            <a:ext cx="649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2360" y="868320"/>
            <a:ext cx="316224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Число в т2100г1 должно быть не больше числа в т2000с4г4, число в т2100г2 тоже должно быть не больше числа в т2000с4г4 и меньше числа в т2100г1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т2100 – аборты до 14 лет вкл. только по медицинским показаниям!!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4 таблицы 2100 не более числа из т2000с4г6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2101г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лее числа 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2000с4г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9" name="Овал 10"/>
          <p:cNvSpPr/>
          <p:nvPr/>
        </p:nvSpPr>
        <p:spPr>
          <a:xfrm>
            <a:off x="10425240" y="529128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Овал 13"/>
          <p:cNvSpPr/>
          <p:nvPr/>
        </p:nvSpPr>
        <p:spPr>
          <a:xfrm>
            <a:off x="8026560" y="1792440"/>
            <a:ext cx="688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Овал 15"/>
          <p:cNvSpPr/>
          <p:nvPr/>
        </p:nvSpPr>
        <p:spPr>
          <a:xfrm flipH="1">
            <a:off x="1042524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Объект 3" descr=""/>
          <p:cNvPicPr/>
          <p:nvPr/>
        </p:nvPicPr>
        <p:blipFill>
          <a:blip r:embed="rId1"/>
          <a:stretch/>
        </p:blipFill>
        <p:spPr>
          <a:xfrm>
            <a:off x="3643200" y="849240"/>
            <a:ext cx="8548920" cy="5121360"/>
          </a:xfrm>
          <a:prstGeom prst="rect">
            <a:avLst/>
          </a:prstGeom>
          <a:ln w="0">
            <a:noFill/>
          </a:ln>
        </p:spPr>
      </p:pic>
      <p:sp>
        <p:nvSpPr>
          <p:cNvPr id="283" name="Овал 9"/>
          <p:cNvSpPr/>
          <p:nvPr/>
        </p:nvSpPr>
        <p:spPr>
          <a:xfrm>
            <a:off x="8207280" y="4336920"/>
            <a:ext cx="820800" cy="298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Овал 11"/>
          <p:cNvSpPr/>
          <p:nvPr/>
        </p:nvSpPr>
        <p:spPr>
          <a:xfrm flipH="1">
            <a:off x="7093800" y="2448000"/>
            <a:ext cx="8240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Овал 12"/>
          <p:cNvSpPr/>
          <p:nvPr/>
        </p:nvSpPr>
        <p:spPr>
          <a:xfrm>
            <a:off x="10733040" y="4437000"/>
            <a:ext cx="822240" cy="298440"/>
          </a:xfrm>
          <a:prstGeom prst="ellipse">
            <a:avLst/>
          </a:prstGeom>
          <a:solidFill>
            <a:srgbClr val="2791a6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Овал 14"/>
          <p:cNvSpPr/>
          <p:nvPr/>
        </p:nvSpPr>
        <p:spPr>
          <a:xfrm flipH="1">
            <a:off x="7201800" y="2448000"/>
            <a:ext cx="824040" cy="384120"/>
          </a:xfrm>
          <a:prstGeom prst="ellipse">
            <a:avLst/>
          </a:prstGeom>
          <a:noFill/>
          <a:ln w="28440">
            <a:solidFill>
              <a:srgbClr val="2791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Овал 18"/>
          <p:cNvSpPr/>
          <p:nvPr/>
        </p:nvSpPr>
        <p:spPr>
          <a:xfrm>
            <a:off x="9469440" y="4586400"/>
            <a:ext cx="822240" cy="298440"/>
          </a:xfrm>
          <a:prstGeom prst="ellipse">
            <a:avLst/>
          </a:prstGeom>
          <a:solidFill>
            <a:srgbClr val="7030a0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Овал 19"/>
          <p:cNvSpPr/>
          <p:nvPr/>
        </p:nvSpPr>
        <p:spPr>
          <a:xfrm flipH="1">
            <a:off x="8133480" y="2457360"/>
            <a:ext cx="908280" cy="317520"/>
          </a:xfrm>
          <a:prstGeom prst="ellips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Овал 20"/>
          <p:cNvSpPr/>
          <p:nvPr/>
        </p:nvSpPr>
        <p:spPr>
          <a:xfrm>
            <a:off x="8304120" y="4992840"/>
            <a:ext cx="822240" cy="298440"/>
          </a:xfrm>
          <a:prstGeom prst="ellipse">
            <a:avLst/>
          </a:prstGeom>
          <a:solidFill>
            <a:srgbClr val="92d050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Овал 21"/>
          <p:cNvSpPr/>
          <p:nvPr/>
        </p:nvSpPr>
        <p:spPr>
          <a:xfrm flipH="1">
            <a:off x="7012080" y="2481120"/>
            <a:ext cx="907920" cy="317520"/>
          </a:xfrm>
          <a:prstGeom prst="ellipse">
            <a:avLst/>
          </a:prstGeom>
          <a:noFill/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1000,1,04+13,2000,1,04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=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4000,146,0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Межформенный контроль 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1000,7,04+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2000,7,04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=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4000,141,0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Межформенный контроль 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едует проводить с отчетной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формой № 14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стационарных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условиях»:  таблиц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4 000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трок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14.1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граф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по поводу внематочной беременности (раздел  3. «Хирургическая работа организации»)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блема абортов тесно связана с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контрацепцией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 Поэтому следует обратить внимание на операции по поводу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стерилизации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женщин ( форма № 14 таблица 4 000 Раздел 3.«Хирургическая работа организации» строка 13.4  графа 3)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 -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заполняется полностью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 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40bad2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Объект 4" descr=""/>
          <p:cNvPicPr/>
          <p:nvPr/>
        </p:nvPicPr>
        <p:blipFill>
          <a:blip r:embed="rId1"/>
          <a:stretch/>
        </p:blipFill>
        <p:spPr>
          <a:xfrm>
            <a:off x="3614760" y="1523880"/>
            <a:ext cx="7991280" cy="46515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33609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Первичная учетная медицинская документация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ontent Placeholder 3" descr=""/>
          <p:cNvPicPr/>
          <p:nvPr/>
        </p:nvPicPr>
        <p:blipFill>
          <a:blip r:embed="rId1"/>
          <a:stretch/>
        </p:blipFill>
        <p:spPr>
          <a:xfrm>
            <a:off x="3181320" y="609480"/>
            <a:ext cx="8236080" cy="57484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Форма № 13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«Сведения о беременности с абортивным исходом»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Footer Placeholder 18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е аборты у девочек в возрасте до 14 лет вкл. считаются как аборты по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медицинским показаниям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в силу физиологической незрелости организма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81812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На каждый случай аборта у девочек до 14 лет вкл. представляется пояснительная записка: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 отчету прилагается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пояснительня записк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 обязательным распределением числа абортов у детей до 14 лет (включительно) по возрастам: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81812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Фамилия, имя, отчество пациентки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Дата рождения, возраст на момент поступления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Номер первичной медицинской документации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Медицинская организация, направившая на госпитализацию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Диагноз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Код по МКБ-10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1000: беременность с абортивным исходом в срок до 12 недель.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98" name="Объект 2" descr=""/>
          <p:cNvPicPr/>
          <p:nvPr/>
        </p:nvPicPr>
        <p:blipFill>
          <a:blip r:embed="rId1"/>
          <a:stretch/>
        </p:blipFill>
        <p:spPr>
          <a:xfrm>
            <a:off x="3603600" y="868320"/>
            <a:ext cx="7726320" cy="5145120"/>
          </a:xfrm>
          <a:prstGeom prst="rect">
            <a:avLst/>
          </a:prstGeom>
          <a:ln w="0">
            <a:noFill/>
          </a:ln>
        </p:spPr>
      </p:pic>
      <p:sp>
        <p:nvSpPr>
          <p:cNvPr id="199" name="Овал 10"/>
          <p:cNvSpPr/>
          <p:nvPr/>
        </p:nvSpPr>
        <p:spPr>
          <a:xfrm>
            <a:off x="6886440" y="1839960"/>
            <a:ext cx="755640" cy="29376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Овал 13"/>
          <p:cNvSpPr/>
          <p:nvPr/>
        </p:nvSpPr>
        <p:spPr>
          <a:xfrm>
            <a:off x="7621560" y="1839960"/>
            <a:ext cx="2505240" cy="29376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Овал 15"/>
          <p:cNvSpPr/>
          <p:nvPr/>
        </p:nvSpPr>
        <p:spPr>
          <a:xfrm>
            <a:off x="6988320" y="2133720"/>
            <a:ext cx="617400" cy="9712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1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1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668760" y="867960"/>
            <a:ext cx="7710480" cy="13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Беременность с абортивным исходом в срок до 12 недель (О00-О06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668760" y="2776320"/>
            <a:ext cx="7624800" cy="32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Исключена продолжающаяся беременность при многоплодном зачатии после аборта одного или более чем одного плода (О31.1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Саша</cp:lastModifiedBy>
  <cp:lastPrinted>2018-12-10T14:36:03Z</cp:lastPrinted>
  <dcterms:modified xsi:type="dcterms:W3CDTF">2018-12-11T23:38:29Z</dcterms:modified>
  <cp:revision>61</cp:revision>
  <dc:subject/>
  <dc:title>Презентация PowerPoint</dc:title>
</cp:coreProperties>
</file>